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A16-083A-425E-9D3D-6074FC2A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FF9-0877-4C40-B5E6-24CD5B1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39B-41E0-4D8C-863F-49CCFBD0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EB1-8A22-4FEA-A126-907A3E53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81EA-2173-4F71-AA1F-37E1D71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800-2968-4CDC-9936-474894D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A0A-D565-4B5D-BF0A-F566482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E19-BC00-4FFE-A4C2-E656379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7A81-14C9-4A4D-A2D7-0B72111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0AD9-5D37-48EC-8162-3B37147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7F47-F5BE-434A-9B93-E12C50E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013-0680-4D4B-8C2E-729C2F9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E09-4755-47CD-B383-6B66246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1CDE-C21D-407C-BF18-A68A6724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062E-C3D7-4982-8604-1B0D91A3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4BE7-BD5A-418B-AB32-0DA8ABE6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FBA-444F-474F-AFFF-A5B6211A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0B0-6483-49CD-A438-9CA5F06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BC5-9B4C-410E-B3E1-F2017D07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C2F-40DE-4941-B6EE-4063978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A0A-8562-4444-ADCC-B6880FE6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BAB-09BE-44F0-9BE0-8AE85DF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362-7B0F-402E-A96F-824EB69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447-28B6-4B8F-ABD9-222DE57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D094-5CF0-4A7D-98B3-4D65FCED7C3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ADC-3A47-4CEC-AA3A-16A2E338E0C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762120"/>
            <a:ext cx="687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olidays do British students have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536160" y="54097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92880" y="3323160"/>
            <a:ext cx="92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ummer, autumn, winter, 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olidays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0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